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8EBB-F438-4E1F-A68F-3159C1D57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30F0-0334-4AE7-A01D-4B599BD6B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761E-C444-4D1B-A595-2FD78EEF2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0160-9E5B-4DA7-B4B4-9E3A4D107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185B-FD14-46AB-BC77-1621F2C3A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3BD4-4940-4D09-81EC-1B6C2E4EA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BA40-D494-4EF7-AAA2-DF81A8FDA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99A1-02A2-49D7-895A-E5DAF3E98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BD61-8772-43C8-8A39-AEF88D505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E730-9161-456E-941C-3AD656E56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D8E1-97E6-432C-83A4-B6F70583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431F-92F5-4172-BED6-1704B1281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BB133-3F8A-4559-AE99-1D7D3CF131B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 rot="284400">
            <a:off x="6519240" y="1608120"/>
            <a:ext cx="220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أمي الحبيبة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7208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225000">
            <a:off x="5039280" y="2205000"/>
            <a:ext cx="423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   لا يوجد كلام ممكن أن يعبّ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عن عمق حبي وشكري لك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82400">
            <a:off x="3986640" y="2924280"/>
            <a:ext cx="5564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ليتكي كنت قربي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  لأقبّل يديكي الحنونتين اللتان تعبتا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في تربيتي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  لأقبّل جبينكِ الذي حمل همي ورس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لي حياتي 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356400">
            <a:off x="5386680" y="4868640"/>
            <a:ext cx="30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أحبك كثيرا يا أمي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 rot="276000">
            <a:off x="3793680" y="1560600"/>
            <a:ext cx="5898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وأُقبّل ذلك الحض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الذي دوما ضمني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في حزني، في فرحي، في اضطراب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في ضياعي ، في نجاحي، في فشلي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في كل أحوالي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   وأقبّل وجهكي الحنون المبتسم دائما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الذي دوما أراحني  وأزال عني هموم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285600">
            <a:off x="5817240" y="4149360"/>
            <a:ext cx="32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   أحبك كثيرا يا أمي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252600">
            <a:off x="3647520" y="4508640"/>
            <a:ext cx="5601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  وأقبّل عيناكِ اللتان سهرتا لراحتي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عيناكِ اللتان بكيتا كثيرا لأجلي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            عيناكِ اللتان رأيت من خلاله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                  العالم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 rot="318600">
            <a:off x="6637320" y="1647360"/>
            <a:ext cx="212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أمي الحبيبة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212400">
            <a:off x="4602600" y="2079720"/>
            <a:ext cx="469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  أحبك كثيرا َ... وأح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 قلبكِ الكبير الذي رأيت فيه ك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الحب وكل الحياة 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  لأن يسوع ساكن فيه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211800">
            <a:off x="3900600" y="3715920"/>
            <a:ext cx="52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سأبقى أحبك وأحتاج لحبك وحضن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وحنانك طول العم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 rot="21203400">
            <a:off x="1532520" y="2561760"/>
            <a:ext cx="3149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a50021"/>
                </a:solidFill>
                <a:latin typeface="Arial"/>
              </a:rPr>
              <a:t>كل سنة وإنتِ طيبة     ياأغلى النا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a50021"/>
                </a:solidFill>
                <a:latin typeface="Arial"/>
              </a:rPr>
              <a:t>   يا ماما حبيبتي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6T20:13:42Z</dcterms:created>
  <dc:creator>Admin</dc:creator>
  <dc:description/>
  <dc:language>en-US</dc:language>
  <cp:lastModifiedBy>Wagdy</cp:lastModifiedBy>
  <dcterms:modified xsi:type="dcterms:W3CDTF">2004-03-19T14:54:55Z</dcterms:modified>
  <cp:revision>23</cp:revision>
  <dc:subject/>
  <dc:title>Slide 1</dc:title>
</cp:coreProperties>
</file>